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6A4-A83B-44ED-A668-403A0E2A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2D6-AEA9-4647-A470-02F0F25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856-B3FA-426F-836C-54C0ABE0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EB1-6EDC-41D3-AB22-FE29CAB2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B9F-22D0-485B-8497-A15D84CA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E12-6723-448A-9BBC-F1AF78D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D3F-8F27-4D9A-B464-6106A6D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3CE-258B-42A3-9844-E29C805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C02-83B1-4ED9-A35A-9F910C9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E9C-27B6-4C59-9368-7755785B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296-3B43-4035-A6B8-1202796B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C8E-A49C-4C3B-A191-404E1B13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218-779D-40D6-9CB7-A16AFF320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IP_AQ_Unified_Scenario" TargetMode="External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hyperlink" Target="http://wiki.esipfed.org/index.php/GEOSS_AIP_AQ_Scenario" TargetMode="External"/><Relationship Id="rId4" Type="http://schemas.openxmlformats.org/officeDocument/2006/relationships/hyperlink" Target="http://wiki.esipfed.org/index.php/Talk:GEOSS_AIP_AQ_Scenario" TargetMode="External"/><Relationship Id="rId5" Type="http://schemas.openxmlformats.org/officeDocument/2006/relationships/hyperlink" Target="http://wiki.esipfed.org/index.php/GEOSS_AIP_AQ_Scenar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DC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&amp;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E.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.johne@e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Wanted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5720" y="3362040"/>
            <a:ext cx="2476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70488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ir Quality Scenario </a:t>
            </a:r>
            <a:r>
              <a:rPr b="1" lang="en-US" sz="2800" spc="-1" strike="noStrike" u="sng">
                <a:solidFill>
                  <a:srgbClr val="005faa"/>
                </a:solidFill>
                <a:uFillTx/>
                <a:latin typeface="Arial"/>
              </a:rPr>
              <a:t>Development Proces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781280"/>
            <a:ext cx="8991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was developed iteratively by a collaborating multi-organiz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IP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elecons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f Pract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o co-evolve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871640" y="3025800"/>
            <a:ext cx="5429160" cy="351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a serious global public heal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is influenced by processes on local, regional, intercontinental, and glob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tter understand, forecast, and manage air pollution, there is a need to bring together information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bservational platforms (surface monitoring networks, satellites, sondes, ground-based remote sensors, aircraft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and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and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emographics, exposure-related behavior, and health impacts does not respect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; and international cooperative fora (e.g. WMO, CEOS, EEA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lated 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Commerce/Transportation/Energy/Land Use/Health Authorit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Industry; Consultants; Academic and Other Research Institutes; and international scientific cooperative fora or projects (e.g., IGAC, GEMS, ECMWF, EMEP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; National Meteorological Agencies; National Space Agencies; National Land Management Agencies; Industry; Consultants; Academic and Other Research Institu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, State/Provincial, Local Environmental Management Agencies and Multi-lateral Cooperative Fora (such as LRTAP Convention, EANET, Male Declaration, CAI-Asia, Arctic Council, ...);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Consumers of Air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ral public; National, State/Provincial, and Local Health and Emergency Response Authorities; Academic and Independent Research Institutes (including health and environmental impacts research); Mass Media (including television, newspapers, radio, internet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Focus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2600" y="1581120"/>
            <a:ext cx="5470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213516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 – W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07:43:38Z</dcterms:modified>
  <cp:revision>226</cp:revision>
  <dc:subject/>
  <dc:title>Update on OGC involvement in GEOSS</dc:title>
</cp:coreProperties>
</file>